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9B20-2740-4A3B-91CC-FD05F9F920D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1. Введение в курс миров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 Мировая экономика как составная часть экономическ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экономическая теория состоит из пяти час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история эконом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икроэконом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акроэконом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история экономических у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международная эконом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экономики сложилась в течение XIX в. в Германии и постепенно распространилась в других странах. Рождение дисципли­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о связано с неприятием классической английской политэконо­мии, но в дальнейшем обнаружилось, что история экономики не заме­няет классическую школу, а дополняет 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экономика возникла в последней трети XIX в. С теориями основателей микроэкономики мы познакомились в курсах «микроэко­номика» и «история экономических учений». Это теории Л. Вальраса, К. Менгера, А. Маршалла, Ф. Визера, О. Бем-Баверка, Ф. Эджуорта, У. Джевонса, В. Парето, Д. Кларка, И. Фишера, К. Викселл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лава 1. Введение в курс миров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1. Мировая экономика как составная часть экономической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ор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временная экономическая теория состоит из пяти частей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история экономики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микроэкономика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макроэкономика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история экономических учен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. международная экономи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стория экономики сложилась в течение XIX в. в Германии и постепенно распространилась в других странах. Рождение дисципли­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ыло связано с неприятием классической английской политэконо­мии, но в дальнейшем обнаружилось, что история экономики не заме­няет классическую школу, а дополняет е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кроэкономика возникла в последней трети XIX в. С теориями основателей микроэкономики мы познакомились в курсах «микроэко­номика» и «история экономических учений». Это теории Л. Вальраса, К. Менгера, А. Маршалла, Ф. Визера, О. Бем-Баверка, Ф. Эджуорта, У. Джевонса, В. Парето, Д. Кларка, И. Фишера, К. Викселля и др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экономика - самая молодая и динамичная часть со­временной экономиче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. Сначала она была разделами мик­ро- и макроэкономики, но со второй полов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X в. международная (мировая) экономика выделяется в самостоятельную научн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­лину. Это было связано с большими переменами в мировом хозяйстве: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адом колониальной системы, с развитием рыночной экономики в Азии, Латин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е и с распадом социалистического лагер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наступления нового этапа в развитии мировой экономи­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ость экономики как важнейший принцип взаимоотноше­ний между государств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международных, надгосударственных организ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е и широкое распространение многонациональных корпораций, все шире влияющих на мировую торговлю, промышлен­ность и инвести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ежающее развитие международной торговли, международ­ного движения рабочей силы, капитала и технолог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онирование самостоятельной международной финансо­вой сф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отмечена закономерность: чем более закрыта экономика какой-либо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мирового сообщества, тем медленнее она раз­вивается, тем ниж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ьность труда, тем хуже качество то­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закономерность подтверждается значительными статистиче­скими да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ая экономика - самая молодая и динамичная часть со­временной экономическ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ории. Сначала она была разделами мик­ро- и макроэкономики, но со второй полови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XX в. международная (мировая) экономика выделяется в самостоятельную научну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исцип­лину. Это было связано с большими переменами в мировом хозяйстве: 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падом колониальной системы, с развитием рыночной экономики в Азии, Латинск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мерике и с распадом социалистического лагер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знаки наступления нового этапа в развитии мировой экономи­к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крытость экономики как важнейший принцип взаимоотноше­ний между государствам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здание международных, надгосударственных организац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зникновение и широкое распространение многонациональных корпораций, все шире влияющих на мировую торговлю, промышлен­ность и инвестици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пережающее развитие международной торговли, международ­ного движения рабочей силы, капитала и технолог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ункционирование самостоятельной международной финансо­вой сфер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егодня отмечена закономерность: чем более закрыта экономика какой-либо стра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 мирового сообщества, тем медленнее она раз­вивается, тем ниж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зводительность труда, тем хуже качество то­вар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а закономерность подтверждается значительными статистиче­скими данны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 Предмет и методолог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экономика изучает экономические закономерности взаимо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х экономик: движение потоков товаров, услуг и платежей; экономическ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у, регламентирующую эти потоки и их воздействие на обществ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состоя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я микро- и макроэкономики от мировой 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 микроэкономике товаром признается любая полез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ь, а произведенные товары включаются в валовой внутренний продукт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доход, то в мировой экономике пополняй ве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чески не приобретает статус тов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и национальной экономики происходит свободное пере­мещение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капитала, что приводит к сглаживанию различий ме­жду регионами.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й экономике иммиграционные законы и дру­гие барьеры существен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рживают выравнивание ставок зарплат между стран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2. Предмет и методология мировой экономик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ая экономика изучает экономические закономерности взаимодейств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ых экономик: движение потоков товаров, услуг и платежей; экономическу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литику, регламентирующую эти потоки и их воздействие на общественно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лагосостоян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личия микро- и макроэкономики от мировой экономик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сли в микроэкономике товаром признается любая полезна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щь, а произведенные товары включаются в валовой внутренний продукт 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ый доход, то в мировой экономике пополняй вещ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втоматически не приобретает статус товар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нутри национальной экономики происходит свободное пере­мещение тру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 капитала, что приводит к сглаживанию различий ме­жду регионами. 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ой экономике иммиграционные законы и дру­гие барьеры существенн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держивают выравнивание ставок зарплат между странам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 Россия и мировое экономическое сообще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современной России в мире до сих пор определяется со­ветским прошл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СР был изолированной супердержавой с невы­соким уровнем жизни, с команд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й экстенсивной экономикой, что приводило к низ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тоспособности товаров и замедлению темпов экономического ро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992 г. задача интеграции с мировым экономическим сообще­ством для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шла в практическую плоскость. Отношения СССР с миром носили идеолог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. Сотрудничество со­циалистическими странами и рядом стран третьего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лось на внеэкономической основе. Контакты с развитыми странами были весь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х социалистической системы ослабил позиции России в мире. По уровню ВНП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е на душу населения Россия значительно ус­тупает развитым странам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ся к странам с доходом ниже сред­него уровня. В эту группу входят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тинской Америки, Африки, Азии и Арабского Востока. Мы считаем Россию вели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жавой, а она по многим параметрам относится к развивающимся странам. Эт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 определяет место и роль России в мировом хозяйстве. Вхождение в рыночн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у было осложнено глубоким эко­номическим кризисом, охвативш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постсоциалистическое про­стран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утратила рынки сбыта бывшего СЭВ. Дезинтеграция разрушила всю сист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зяйственных связей, произошло обвальное сокращение товарооборота меж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публиками бывшего СССР. Внешняя торговля стран СНГ переориентировалась 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ьнее зару­беж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3. Россия и мировое экономическое сообщество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сто современной России в мире до сих пор определяется со­ветским прошлы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ССР был изолированной супердержавой с невы­соким уровнем жизни, с командн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дминистративной экстенсивной экономикой, что приводило к низк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нкурентоспособности товаров и замедлению темпов экономического рост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1992 г. задача интеграции с мировым экономическим сообще­ством для Росс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ешла в практическую плоскость. Отношения СССР с миром носили идеологическ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арактер. Сотрудничество со­циалистическими странами и рядом стран третьего ми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роилось на внеэкономической основе. Контакты с развитыми странами были весь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граниченны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рах социалистической системы ослабил позиции России в мире. По уровню ВНП 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чете на душу населения Россия значительно ус­тупает развитым странам 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носится к странам с доходом ниже сред­него уровня. В эту группу входят стра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атинской Америки, Африки, Азии и Арабского Востока. Мы считаем Россию велик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ржавой, а она по многим параметрам относится к развивающимся странам. Это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 определяет место и роль России в мировом хозяйстве. Вхождение в рыночну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кономику было осложнено глубоким эко­номическим кризисом, охвативши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се постсоциалистическое про­странство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сия утратила рынки сбыта бывшего СЭВ. Дезинтеграция разрушила всю систе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озяйственных связей, произошло обвальное сокращение товарооборота межд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спубликами бывшего СССР. Внешняя торговля стран СНГ переориентировалась 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альнее зару­бежь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а понесла крупные потери в производстве и экспорте. Все э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ложнялось большим внешним долгом, отсутствием таможенной границ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м эффективного валютного и экспортного контро­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вступила в МВФ, МБРР, подала заявку на вступление во Всемирн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ую организа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важнейшей задачей России становится восстано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ой интеграции в рамках СНГ. Этот процесс происходит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ми трудност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обесценивания рубля по отношению к доллару в 1998 году и ро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х цен на энергоносители в экономике страны начинает­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ление импортозамещающих отраслей с одновременным рос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ов за счет экспорта энергоносителей. Но рост доходов в стране ведет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лению импорта, что замедляет экономиче­ское восстанов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ется зависимость от мировых цен на энергоноси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рана понесла крупные потери в производстве и экспорте. Все э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ложнялось большим внешним долгом, отсутствием таможенной границы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сутствием эффективного валютного и экспортного контро­л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сия вступила в МВФ, МБРР, подала заявку на вступление во Всемирну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орговую организацию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этому важнейшей задачей России становится восстановл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кономической интеграции в рамках СНГ. Этот процесс происходит 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ольшими трудностя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сле обесценивания рубля по отношению к доллару в 1998 году и рос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ых цен на энергоносители в экономике страны начинает­с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сстановление импортозамещающих отраслей с одновременным росто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ходов за счет экспорта энергоносителей. Но рост доходов в стране ведет 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сстановлению импорта, что замедляет экономиче­ское восстановлен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храняется зависимость от мировых цен на энергоносител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0322-E603-462D-A5A3-EB9F9B648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071C-07A0-4236-A679-89E03970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8770-F1E3-4D2B-9924-9F67F18E6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6AA8-268E-4975-82FA-1F86989C2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9A34-A405-4565-992F-35930E7AE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D564-6793-4E81-A17A-27CE0157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CBBA-F353-4BFC-AC9D-12F859D2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952C-83F2-44E5-BC6A-95CB8002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1971-AB9E-4BED-89AE-375AD80A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E8FD-0658-4758-BCD0-3A96C5AA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FEB7-3B96-4C49-AA08-58A4B45F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4FB0-0EFE-4277-9D20-1C3C3921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BF32-C482-4ED1-82F3-FD223766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C74D-818C-4DF2-A928-4BE298F0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50FB-107B-4F71-9B81-24EBF9A2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E8E5-F0BE-440B-AD24-8F3529C49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7B7C-38F3-48AF-87C0-00603CE6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F1A1-2DBE-4FA3-80BE-166EA649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B53A-5EE9-4418-B51D-DACEA7C9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ABD5-6072-4B88-8DCE-713DC6B0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0CF3-C226-41E3-B26F-AB4105D0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BDB7-B693-4525-84F1-DC30DB58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23FB-1765-423A-A4F5-C99CCED8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ECAE-0464-4EEF-9467-4C2DE318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CA8C-D59E-4BAB-B88C-55868360005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9FD1-271E-4DD0-A035-5CBA6928142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50920" y="182160"/>
            <a:ext cx="8642160" cy="1047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Tahoma"/>
              </a:rPr>
              <a:t>Глава 1. Введение в курс мировой экономики.</a:t>
            </a:r>
            <a:br>
              <a:rPr sz="2000"/>
            </a:br>
            <a:r>
              <a:rPr b="1" lang="ru-RU" sz="2000" spc="-1" strike="noStrike">
                <a:solidFill>
                  <a:srgbClr val="99ff66"/>
                </a:solidFill>
                <a:latin typeface="Tahoma"/>
              </a:rPr>
              <a:t>1.1. Мировая экономика как составная часть экономической</a:t>
            </a:r>
            <a:br>
              <a:rPr sz="2000"/>
            </a:br>
            <a:r>
              <a:rPr b="1" lang="ru-RU" sz="2000" spc="-1" strike="noStrike">
                <a:solidFill>
                  <a:srgbClr val="99ff66"/>
                </a:solidFill>
                <a:latin typeface="Tahoma"/>
              </a:rPr>
              <a:t>теории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250560" y="1371600"/>
            <a:ext cx="871380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временная экономическая теория состоит из пяти частей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. история экономик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. микроэкономика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. макроэкономика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. история экономических учени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5. международная экономик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История экономики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ложилась в течение XIX в. в Германии и постепенно распространилась в других странах. Рождение дисципли­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ыло связано с неприятием классической английской политэконо­мии, но в дальнейшем обнаружилось, что история экономики не заме­няет классическую школу, а дополняет е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икроэкономик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зникла в последней трети XIX в. С теориями основателей микроэкономики мы познакомились в курсах «микроэко­номика» и «история экономических учений». Это теории Л. Вальраса, К. Менгера, А. Маршалла, Ф. Визера, О. Бем-Баверка, Ф. Эджуорта, У. Джевонса, В. Парето, Д. Кларка, И. Фишера, К. Викселля и др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ировая экономик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самая молодая и динамичная часть со­временной экономичес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еории. Сначала она была разделами мик­ро- и макроэкономики, но со второй полови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XX в. международная (мировая) экономика выделяется в самостоятельную научну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исцип­лину. Это было связано с большими переменами в мировом хозяйстве: 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спадом колониальной системы, с развитием рыночной экономики в Азии, Латинс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мерике и с распадом социалистического лагер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ризнаки наступления нового этапа в развитии мировой экономи­ки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крытость экономики как важнейший принцип взаимоотноше­ний между государствам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здание международных, надгосударственных организаци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зникновение и широкое распространение многонациональных корпораций, все шире влияющих на мировую торговлю, промышлен­ность и инвестици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пережающее развитие международной торговли, международ­ного движения рабочей силы, капитала и технологи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ункционирование самостоятельной международной финансо­вой сфер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Сегодня отмечена закономерность: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чем более закрыта экономика какой-либо стра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 мирового сообщества, тем медленнее она раз­вивается, тем ниж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оизводительность труда, тем хуже качество то­вар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та закономерность подтверждается значительными статистиче­скими данны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66"/>
                </a:solidFill>
                <a:latin typeface="Tahoma"/>
              </a:rPr>
              <a:t>1.2. Предмет и методология мировой экономики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ировая экономик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учает экономические закономерности взаимодейств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циональных экономик: движение потоков товаров, услуг и платежей; экономическу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литику, регламентирующую эти потоки и их воздействие на общественно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лагосостоян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тличи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микро- и макроэкономики от мировой экономики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если в микроэкономике товаром признается любая полезна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ещь, а произведенные товары включаются в валовой внутренний продукт 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циональный доход, то в мировой экономике пополняй вещ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втоматически не приобретает статус товар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нутри национальной экономики происходит свободное пере­мещение труд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капитала, что приводит к сглаживанию различий ме­жду регионами. 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ировой экономике иммиграционные законы и дру­гие барьеры существен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держивают выравнивание ставок зарплат между странам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66"/>
                </a:solidFill>
                <a:latin typeface="Tahoma"/>
              </a:rPr>
              <a:t>1.3. Россия и мировое экономическое сообщество</a:t>
            </a:r>
            <a:br>
              <a:rPr sz="4000"/>
            </a:b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79280" y="40428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сто современной России в мире до сих пор определяется со­ветским прошлы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ССР был изолированной супердержавой с невы­соким уровнем жизни, с команд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дминистративной экстенсивной экономикой, что приводило к низ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нкурентоспособности товаров и замедлению темпов экономического рост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 1992 г. задача интеграции с мировым экономическим сообще­ством для Росс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ерешла в практическую плоскость. Отношения СССР с миром носили идеологическ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характер. Сотрудничество со­циалистическими странами и рядом стран третьего ми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роилось на внеэкономической основе. Контакты с развитыми странами были весьм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граниченны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рах социалистической системы ослабил позиции России в мире. По уровню ВНП 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счете на душу населения Россия значительно ус­тупает развитым странам 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носится к странам с доходом ниже сред­него уровня. В эту группу входят стра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Латинской Америки, Африки, Азии и Арабского Востока. Мы считаем Россию вели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ержавой, а она по многим параметрам относится к развивающимся странам. Это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акт определяет место и роль России в мировом хозяйстве. Вхождение в рыночну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кономику было осложнено глубоким эко­номическим кризисом, охвативши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се постсоциалистическое про­странство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оссия утратила рынки сбыта бывшего СЭВ. Дезинтеграция разрушила всю систем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хозяйственных связей, произошло обвальное сокращение товарооборота межд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еспубликами бывшего СССР. Внешняя торговля стран СНГ переориентировалась 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альнее зару­бежь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рана понесла крупные потери в производстве и экспорте. Все эт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сложнялось большим внешним долгом, отсутствием таможенной границы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сутствием эффективного валютного и экспортного контро­л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оссия вступила в МВФ, МБРР, подала заявку на вступление во Всемирну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орговую организацию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этому важнейшей задачей России становится восстановлен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кономической интеграции в рамках СНГ. Этот процесс происходит 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ольшими трудностя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сле обесценивания рубля по отношению к доллару в 1998 году и рост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ировых цен на энергоносители в экономике страны начинает­с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сстановление импортозамещающих отраслей с одновременным росто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оходов за счет экспорта энергоносителей. Но рост доходов в стране ведет 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сстановлению импорта, что замедляет экономиче­ское восстановлен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храняется зависимость от мировых цен на энергоносител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11:11:54Z</dcterms:created>
  <dc:creator>User 2006</dc:creator>
  <dc:description/>
  <dc:language>en-US</dc:language>
  <cp:lastModifiedBy>LEGION</cp:lastModifiedBy>
  <dcterms:modified xsi:type="dcterms:W3CDTF">2016-01-05T11:06:13Z</dcterms:modified>
  <cp:revision>5</cp:revision>
  <dc:subject/>
  <dc:title>Глава 1. Введение в курс мировой экономики. 1.1. Мировая экономика как составная часть экономической теории.</dc:title>
</cp:coreProperties>
</file>